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EA1-E5CE-4D46-A385-C1B3B534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9B2-C312-482C-8C1F-FC489980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0DC-1838-40D5-8934-BF22C057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12A-A63B-4784-8B46-0A4C30E5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F6FF-4ED6-401E-B150-AAE07B0C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B152-075D-4C59-8CFB-B7BF8084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F3B-DEE0-484F-8465-4081A394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EF75-A805-4D3B-B35F-7912B5B7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B8F0-C88C-496C-B2D7-51BB2914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F5FE-091D-4B17-984D-4B95E3B0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9D37-2B39-4BFD-B752-F7E2D00B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365-0D3B-4FD2-B241-0E99EC16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5D80-5E61-4CB6-8D4A-46C5BAB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CF76-E63F-444B-A3C9-D385E19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2514-2B81-41EA-B5A1-074A7D61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B8CC-E8C3-4D9F-A316-C334643F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554B-BC63-45E6-84A4-DBE88FA9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EE60-9EA0-4AAB-A9F8-167F1E4D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B14A-18AC-4ED5-944B-AE71120B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316B-BD45-4B63-815B-580560EA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2929-4DEC-4BEA-8207-B80E0E60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8DEC-A4B6-459A-A86D-24EA952E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00A-E25F-40CC-ADE4-9A788920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CB88-5153-4FA9-9297-9E927F07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C533-ECB7-4B41-8380-D417CA26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8FCD-FA05-4CA2-9FF3-E10BCD29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888F-F064-4F03-9A7C-E22A49F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AA22-76C6-4015-A0DF-D08E1C9E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E218-FE79-481D-A48B-853C382E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71AF-603B-402C-95B9-2412DF8F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62317-CABC-4906-A946-C968DD99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78082-3E07-41EB-A219-ACE2160E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C611-CAA1-436A-960F-4B4FC6C8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F34-6BB1-4D9B-A40A-456D8B87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214F1-8A59-46C1-8B43-30D58725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A2F5-A1D3-46DA-9337-D3641C5B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A27CA-54E4-4104-939E-5F069E67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A1AEF-D9DB-431B-9C53-539C2556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4F7AC-7344-4AA8-BA3D-3F76C2A4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BD10-52FB-4893-93FB-5D3CBA0B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6F9C-127C-46A1-A6D3-7C9E46C7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0744-A382-4231-8468-B7490A00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650B-FF0E-4DC0-815A-75BF978A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D353A-63D6-47EB-B836-72DEE263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FAC-2C04-45DC-84FA-E79CE231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E6BFB-8A95-4AD0-9046-EE4967B7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60740-44F4-4954-A9AA-A41852A0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CD29B-922D-47CE-A681-D1C70D6B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D1A0-C291-4875-8C35-743B4D76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8EAD4-4D62-49C0-AEDE-31E1A236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E3F00-532A-4960-AEAF-8C855065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B5B79-7EBA-45DC-B64F-D0501469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9BFF-64D6-4B0B-B2BD-FB2A711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2EDD6-9368-4A1A-8491-1FA14E94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5FB4-DB4E-4B70-BCA4-C1257D0B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46A-AADD-4310-A720-594AA4B5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A029-DA8C-45F9-A6A8-9450A7C9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52F2E-AF68-4221-9BE8-AD489023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D18A-48CB-4419-B3C7-4F4E6EBE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0211-1164-44FC-97E2-11189446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8E4C4-9CC8-4391-B36D-BF267AB1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AF3D-853C-461F-9BDF-A5017E29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C524-3E4F-488E-8CEF-2E58FF0C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56B0D-87FA-43E1-A6CC-1629D98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E0602-262B-4B48-80D6-CE7EDA7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9D944-B1C8-4CDD-A091-F72B573D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0D1-FBF5-47C2-BEDC-A233313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9402-F0A4-43C2-B2A5-5D0388E6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525A8-C512-43BB-A791-10FF45A3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5233E-D0BB-45CD-9F8C-27CBA2E2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BD20E-1E7C-475B-99E3-FB4FB23E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F88C-4755-49D5-A660-0E62A86A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AFA29-9732-4B72-ACAC-246AF25F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EB57C-F13A-4A07-A3B9-B30CE44F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B2364-611F-4221-A9E7-3B94A440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A461-784B-489F-AE12-85B1A95D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23363-B8D5-4F2D-AAB6-9321B71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C0C-1A81-49D5-85EE-381566A7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D3812-B4B6-4552-AF19-D2C6E614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F66C2-9E21-4255-AA57-C9388EBB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FB280-5EC7-4AAB-83C3-2824DF48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F536-99BF-43EA-8946-525BF55E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423B3-60D5-47D1-922F-63135E69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0EBFD-51F7-463F-95F5-E07C49A3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CAB9-4363-4997-A8E0-E758B9C2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986BE-D5C0-474C-8DB2-366CEDC8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57D21-C0CC-4AE0-8C5A-DA57182C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8414A-AF71-4766-BC39-0710970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ADC-18C3-4999-912D-1F9F070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A5F8-6F5C-4A87-850E-9A77844B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99F3E-30AF-482C-B024-D0BC0DCE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3C695-208E-49BE-A095-731F368A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D5FD1-EEDA-446A-AFE2-A55663D7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4B5E8-0B02-4ADC-820A-5C68ECE2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5BA36-2CA8-45B3-ADC7-840D909B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2EE25-7EA8-45EF-8B25-9D49D96A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C188-8DF2-4544-B1C6-D3FB047D65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23C3-7F68-441F-9EF2-42E64C18CC1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200B-21FC-4AFC-8103-B0272E037A2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EAD6-20C1-407C-93B9-E6B41DA5C72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F8B5-5158-428F-856A-E76C5344A67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53F0-6339-4F25-87C3-EB85ECC8DC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C07F-6A57-4374-A479-56F3CDCFF0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73DC-A778-4580-82CC-3EDB3DBB507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BwtxdI1zvk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2718000" cy="228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3"/>
          <a:stretch/>
        </p:blipFill>
        <p:spPr>
          <a:xfrm>
            <a:off x="4800600" y="0"/>
            <a:ext cx="35812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possible to have a molecule that activates the repress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.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lso capable of synthesizing its own tryptophan via enzy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enzymes are found on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r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per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ike before, the presence of tryptophan changes its shape so it f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, the cell is not going to make tryptophan when in can just absorb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92240" y="1905120"/>
            <a:ext cx="8951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discussed the concept that all genes for an organism are found in all cells that contain a 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t, only the proteins for that cell are “turned on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uld the proteins for a given cell always be “required” though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s can respond to environmental cues to regulate which proteins are actually nee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seen this in people living in high altitu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addition to the promoting regions found on DNA, there is also a switch seg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is called an operat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located between the promoting region (recall the TATA box) and the genes to be expres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ively, all three portions are called an oper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 proteins, called repressors, fit into the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re, they block the RNA polymerase from bi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, if it is almost always present, how do the genes ever get expresse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pressor is what we call an allosteric molecule – it has two different shap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ange is controlled by other molecules that can bind to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controls whether the repressor can bind or 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05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82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common example is found in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. co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ctose can be broken down and used by these bacteria by the use of an enzyme called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β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galactosid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und on a lactose operon, abbreviate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lac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per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make the enzyme if no lactose is pres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ctose acts as an induc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nactivates the repress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, the presence of the sugar induces the expression of the enzyme that metabolizes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on the operon is a gene for a membrane protein that facilitates to entrance of lactose into the ce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oBwtxdI1zv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10:12Z</dcterms:created>
  <dc:creator>ED18</dc:creator>
  <dc:description/>
  <dc:language>en-US</dc:language>
  <cp:lastModifiedBy>ED18</cp:lastModifiedBy>
  <dcterms:modified xsi:type="dcterms:W3CDTF">2012-03-12T14:53:51Z</dcterms:modified>
  <cp:revision>7</cp:revision>
  <dc:subject/>
  <dc:title>Gene Regulation</dc:title>
</cp:coreProperties>
</file>